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A49-6C68-4DC5-8014-5BE91B7B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C4F-9DD3-4173-9472-F998165F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E15-9843-49DB-B0A2-02FECF2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145-683F-4CA8-82B1-6ED4279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59F-B65B-473B-A848-525EF7C3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8EDD-85A2-435D-A4D3-6C737CF0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6C75-6278-4B5D-AC58-8DADCE4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B58-6F46-4A6E-8168-F3158E9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34A-DBBF-4BA5-9D23-54C16756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ED8-9A22-40E8-9ABB-2F0C846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17D3-2F1B-4118-A263-E48B6CE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8BC-F853-4023-917A-150CD8CF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EF91-2B2B-4095-83E9-33AB0C6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0EBB-4AF0-48D7-8E7A-467F1CB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81C-0FAD-40A2-9E20-05B422E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6691-EF19-418B-ACA8-009CF20F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B7A4-0E62-4578-9708-297B9C0C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C4C-26B5-4473-8461-364C1362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3F2-7380-42FB-9BBF-71E3F80F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AF5-4563-48E2-8C05-E7EEAC4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CED-2F25-45E9-BE29-E1D7A38D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9F2-047A-4724-8177-15883698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7F9-4070-478C-9FC7-149E1E8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378-F813-41B6-A47D-B6161AF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14D9-6EE0-43C6-9093-2C72990F76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943-9537-40DA-B9F7-74A81398C5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hyperlink" Target="http://www.csos.jhu.edu/P2000/nnps_model/school/sixtypes/type2.htm" TargetMode="External"/><Relationship Id="rId3" Type="http://schemas.openxmlformats.org/officeDocument/2006/relationships/hyperlink" Target="http://www.csos.jhu.edu/P2000/nnps_model/school/sixtypes/type3.htm" TargetMode="External"/><Relationship Id="rId4" Type="http://schemas.openxmlformats.org/officeDocument/2006/relationships/hyperlink" Target="http://www.csos.jhu.edu/P2000/nnps_model/school/sixtypes/type4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3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4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x Types of Involvement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eys to Successful Partnership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04812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pstein, et. al. 2009.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chool, Family, and Community Partnerships: Your Handbook for Ac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Third Edi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 Thousand Oaks, CA: Corwin Press, Inc.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x Types of Involve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ommunic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Volunt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Learning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ng with the Community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families in understanding child and adolescent development and in setting home conditions that support children as students at each grade level. Assist schools in understanding famili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mmunica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e with families about school programs and student progress through effective school-to-home and home-to-school communic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olunteer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 recruitment, training and schedules to involve families as volunteers and audiences at the school and in other locations to support students and school progra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earning at Hom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families with their children in learning at home, including homework and other curriculum-related activities and individual course and program deci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cision Making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and develop parent leaders and representativ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governance and advocacy through the PTA/PTO, school councils, committees, action teams, and other parent organiz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the Commun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 community resources and services for students, families, and the school with businesses, agencies and other groups, and provide services to the communit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7:25:25Z</dcterms:created>
  <dc:creator>Thomas DiPaola</dc:creator>
  <dc:description/>
  <dc:language>en-US</dc:language>
  <cp:lastModifiedBy>Thomas DiPaola</cp:lastModifiedBy>
  <dcterms:modified xsi:type="dcterms:W3CDTF">2009-08-27T18:50:19Z</dcterms:modified>
  <cp:revision>3</cp:revision>
  <dc:subject/>
  <dc:title>Six Types of Involvement: Keys to Successful Partnerships </dc:title>
</cp:coreProperties>
</file>